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E7FC-0956-4C7F-A050-B69BEE6F6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4840" y="696960"/>
            <a:ext cx="4648320" cy="3486240"/>
          </a:xfrm>
          <a:prstGeom prst="rect">
            <a:avLst/>
          </a:prstGeom>
          <a:ln w="0">
            <a:noFill/>
          </a:ln>
        </p:spPr>
      </p:sp>
      <p:sp>
        <p:nvSpPr>
          <p:cNvPr id="8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for 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xty seconds, I’d be hard pressed to give you a better demonstration of separating content from presentation with CSS than the Zen Gard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w the New York Stock Exchange website, a Toddler site, and a movie site all generated from the same HTML p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ven if you accessed one those pages with Netscape 1.0, you would still be able to read all of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understand what can be done, let’s see how you can use it in your indust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is going to take over now and walk you through the NPR site to show how they are using CSS to separate style from cont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04840" y="696960"/>
            <a:ext cx="4648320" cy="3486240"/>
          </a:xfrm>
          <a:prstGeom prst="rect">
            <a:avLst/>
          </a:prstGeom>
          <a:ln w="0">
            <a:noFill/>
          </a:ln>
        </p:spPr>
      </p:sp>
      <p:sp>
        <p:nvSpPr>
          <p:cNvPr id="8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is Advanced Site design all about?  </a:t>
            </a:r>
            <a:r>
              <a:rPr b="1" lang="en-US" sz="1000" spc="-1" strike="noStrike">
                <a:solidFill>
                  <a:srgbClr val="000000"/>
                </a:solidFill>
                <a:latin typeface="Arial"/>
              </a:rPr>
              <a:t>*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talk today on Advanced site design is about enabling you to go beyond the websites you’re building today using new techniques that will not only improve your site but also reduce your workloa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session won’t make you a PhD, hopefully we’ll have given you a foundation on which to continue exploring after the confer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e spent the last 8 years in the professional services sector consulting on user experience and the design and development of websites and web appl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cus of our talk today, separating content from presentation using CSS, is the same approach I recommend for both million dollar and five thousand dollar customer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one in this audience with a little patience can use these techniques to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talk about why this separation is important, what it can do for you and your users and show relevant examples to kickstart your thin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we continue, let me see a show of hands – How many people are still using &lt;font&gt; tag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people here instead use CS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people are using XHTM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one validate their HTML or CSS with a validator when developin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6960"/>
            <a:ext cx="4648320" cy="3486240"/>
          </a:xfrm>
          <a:prstGeom prst="rect">
            <a:avLst/>
          </a:prstGeom>
          <a:ln w="0">
            <a:noFill/>
          </a:ln>
        </p:spPr>
      </p:sp>
      <p:sp>
        <p:nvSpPr>
          <p:cNvPr id="8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nvest in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tandards on the internet used to be something of a joke, the last 4 years have shown real, meaningful improvement in standards ado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will actually turn 4 years old in February, and a new breed of standards compliant browsers like Mozilla’s FireFox and Safari have paved the way for webmasters to deploy standards-based solutions to the general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Wide Web Consortium, or W3C, is the primary standards body for web techn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versee and manage the specifications for almost all of the important markup languages like HTML, CSS, XML and so on.  The standards we are most concerned with are HTML 4.01, XHTML 1.0, and CSS 2.0.  These are the standards that most browsers today from Microsoft, Apple, Mozilla and others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idea behind these specifications is that in having a documented, agreed-upon set of rules, developers should be able to trust that what they create will run as expected regardless of the platform or device so long as the environment supports th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SH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n’t yet worked with XHTML, don’t be afraid.  XHTML is simply a newer version of HTML with a few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idea of XHTML is to make HTML more strict and “well-formed”… like XML.  Well-formed really just means that the document follows certain rule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ags and attributes must be lower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ttributes must be quoted – even the height and width of an image or the size of a font – those values must be quo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ags must close – even those tags that don’t have a close pair.  Take the &lt;table&gt; tag – it has a matching &lt;/table&gt; tag that you must use.  There are also tags like the &lt;br&gt; tag or the &lt;hr&gt; tag.  Even these tags must be clo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s standards progress, some tags are deprecated.  Tags like &lt;center&gt; or &lt;i&gt; are being phased out in favor of using style sheets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actice, making your site XHTML compatible is very simple and usually requires just a few search and repl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a page follows the XHTML rules? Well, the W3C makes a validator that can read your page and inform you of any mistak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04840" y="696960"/>
            <a:ext cx="4648320" cy="3486240"/>
          </a:xfrm>
          <a:prstGeom prst="rect">
            <a:avLst/>
          </a:prstGeom>
          <a:ln w="0">
            <a:noFill/>
          </a:ln>
        </p:spPr>
      </p:sp>
      <p:sp>
        <p:nvSpPr>
          <p:cNvPr id="9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 your boss and your organization care about developing with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acro issues that executives and management will appreciate that come as a result of using standards in your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s of having a solid base that affords both compatibility with older browsers as well as future browsers means less money spent on maintenance of your existing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ccessible on today’s devices as well as devices we haven’t even seen yet means your potential audience will only continue to grow, not shrink as more and more people access the web via alternative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any of you may have receive some government funding which means you may need to legally meet certain requirements for accessi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 content, when paired with CSS, is more easily read by assistive devices such as screen readers and can make compliance with the Bobby standard much easi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not required to do so, it certainly doesn’t hurt to make your content more available to all user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w would be a good time to be suspicious.  Normally when people say “new and better”, what they really mean is more work for the developer.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k me how I know…</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be honest – there </a:t>
            </a:r>
            <a:r>
              <a:rPr b="0" i="1" lang="en-US" sz="1100" spc="-1" strike="noStrike">
                <a:solidFill>
                  <a:srgbClr val="000000"/>
                </a:solidFill>
                <a:latin typeface="Arial"/>
              </a:rPr>
              <a:t>is</a:t>
            </a:r>
            <a:r>
              <a:rPr b="0" lang="en-US" sz="1100" spc="-1" strike="noStrike">
                <a:solidFill>
                  <a:srgbClr val="000000"/>
                </a:solidFill>
                <a:latin typeface="Arial"/>
              </a:rPr>
              <a:t> a learning curve for developing with standards but it’s a gentle one.  Climbing it means you ca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CK*</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the design of your site, or even multiple sites, from one small CSS fil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CK*</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cause your HTML files will be stripped of extensive table tags and formatting, they will be much simpler and facilitate making content change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might even let you offload changing content to another team member, or, better yet, your bos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CK*</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tly, take full advantage of HTML without having to make ugly hack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more spacer images, no more using tables to create lists or column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ese things can be replaced by simpler, proper HTML and a little CS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call this “semantic markup”, where we use the tag that most appropriately describes the content it contains, rather than most accurately displays the content the way we want i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 a side note, learning these newer approaches is good for your career.  These skills are already becoming foundational requirements so learning them now will be a good move.</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maybe you care a </a:t>
            </a:r>
            <a:r>
              <a:rPr b="0" i="1" lang="en-US" sz="1200" spc="-1" strike="noStrike">
                <a:solidFill>
                  <a:srgbClr val="000000"/>
                </a:solidFill>
                <a:latin typeface="Arial"/>
              </a:rPr>
              <a:t>little</a:t>
            </a:r>
            <a:r>
              <a:rPr b="0" lang="en-US" sz="1200" spc="-1" strike="noStrike">
                <a:solidFill>
                  <a:srgbClr val="000000"/>
                </a:solidFill>
                <a:latin typeface="Arial"/>
              </a:rPr>
              <a:t> bit now...  What could make this even better?  How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faster in the brows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ducing the bandwidth your serve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engine ranking and marketing is still one of the top ways to generate traffic to your site.  Simple HTML files will have, percentage-wise, more relevant content in them.  Don’t underestimate th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yourself work by using freely available layouts from other develop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roactive developers share their source code in royalty-free repositories where you are encouraged to download and use their work as a 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there are some advantages to be ha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4840" y="696960"/>
            <a:ext cx="4648320" cy="3486240"/>
          </a:xfrm>
          <a:prstGeom prst="rect">
            <a:avLst/>
          </a:prstGeom>
          <a:ln w="0">
            <a:noFill/>
          </a:ln>
        </p:spPr>
      </p:sp>
      <p:sp>
        <p:nvSpPr>
          <p:cNvPr id="9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we’re all on the same page about how this fits together, let’s look at a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ite can be one or more HTML pages that include one or more external CSS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its most basic level, each HTML page includes a reference to a CSS file sitting on a web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TML page in your site can refer to one CSS file, or you might have multiple CSS files for different part of your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even break out your CSS into multiple files - one that contains basic font settings for browsers all the way back to IE 3 and then another for more recent brow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ave CSS files for specific outputs like screen, print, projector or audio.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nt style sheet can completely change the look of the site when someone prints your p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se features to turn off background images or hide banner ads or navigation when someone wants to create a hard copy but it will never change the way the page appears on scre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take a look at some real world exam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igner named Dave Shea from Vancouver came up with an idea some time bac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reated a simple HTML page and encouraged people from around the world to style that HTML any way they lik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ch?  They can’t change the HTML – they can only use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attention while I show you a few samples – notice that the content in them is identical – it is only their appearance that changes.  &lt;show the sampl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SHOW HTML, *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ed?  These are just a few of the 519 designs that are posted on csszengarde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 is – it’s not that complicated.  Your site can be just like the CSS Zen Garden - create good HTML and you can design anything, oftentimes without touching the underlying 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using a content management system, that means you also don’t have to touch it either – more freedom and more power.  Not too shabby e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7DB48-A719-48AC-84C6-CEA8B8F3E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90512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29336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8C99A-404E-4D67-98A5-8165A240C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14BA6-BD30-4AB2-BA84-A9E1E68FF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90512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293360"/>
            <a:ext cx="264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3C4BE-DEF2-4821-800C-B29C56BF8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905120"/>
            <a:ext cx="8229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D00F-94A8-4133-905E-248072DCF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AF01-FDC9-4AEE-8DCE-4CFA1E929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0DFC8-C624-45B6-A294-C061197DF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D443863-A932-45B4-9746-12B0EB1CB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F36A8A-E369-4213-83CF-7E34D734B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EBC67-1DC4-4D24-A71F-E582D2077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05120"/>
            <a:ext cx="4015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29336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9E139-B08A-4278-9622-ED213EFFC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05120"/>
            <a:ext cx="4015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293360"/>
            <a:ext cx="8229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7F8AB-A20F-4696-8660-7FD85383C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531C-7717-4735-9D86-42E7106C1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0"/>
            <a:ext cx="9144000" cy="990720"/>
          </a:xfrm>
          <a:prstGeom prst="rect">
            <a:avLst/>
          </a:prstGeom>
          <a:solidFill>
            <a:srgbClr val="d0153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13920" y="222120"/>
            <a:ext cx="37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etaBold-Roman"/>
              </a:rPr>
              <a:t>Advanced Site Design</a:t>
            </a:r>
            <a:endParaRPr b="0" lang="en-US" sz="2800" spc="-1" strike="noStrike">
              <a:solidFill>
                <a:srgbClr val="000000"/>
              </a:solidFill>
              <a:latin typeface="Arial"/>
            </a:endParaRPr>
          </a:p>
        </p:txBody>
      </p:sp>
      <p:sp>
        <p:nvSpPr>
          <p:cNvPr id="5" name="PlaceHolder 4"/>
          <p:cNvSpPr>
            <a:spLocks noGrp="1"/>
          </p:cNvSpPr>
          <p:nvPr>
            <p:ph type="dt" idx="2"/>
          </p:nvPr>
        </p:nvSpPr>
        <p:spPr>
          <a:xfrm>
            <a:off x="6477120" y="3045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81532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parating Content &amp; Presentation Using Web Standards</a:t>
            </a: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Ghidinelli, </a:t>
            </a:r>
            <a:r>
              <a:rPr b="0" lang="en-US" sz="2400" spc="-1" strike="noStrike">
                <a:solidFill>
                  <a:srgbClr val="808080"/>
                </a:solidFill>
                <a:latin typeface="Arial"/>
              </a:rPr>
              <a:t>User Experience Consultan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Yoch, </a:t>
            </a:r>
            <a:r>
              <a:rPr b="0" lang="en-US" sz="2400" spc="-1" strike="noStrike">
                <a:solidFill>
                  <a:srgbClr val="808080"/>
                </a:solidFill>
                <a:latin typeface="Arial"/>
              </a:rPr>
              <a:t>NP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k Hamilton, </a:t>
            </a:r>
            <a:r>
              <a:rPr b="0" lang="en-US" sz="2400" spc="-1" strike="noStrike">
                <a:solidFill>
                  <a:srgbClr val="808080"/>
                </a:solidFill>
                <a:latin typeface="Arial"/>
              </a:rPr>
              <a:t>WA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abstract to concrete</a:t>
            </a:r>
            <a:endParaRPr b="0" lang="en-US" sz="4000" spc="-1" strike="noStrike">
              <a:solidFill>
                <a:srgbClr val="000000"/>
              </a:solidFill>
              <a:latin typeface="Arial"/>
            </a:endParaRPr>
          </a:p>
        </p:txBody>
      </p:sp>
      <p:sp>
        <p:nvSpPr>
          <p:cNvPr id="80"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examples show you the power of separating content from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makes it relevant: NPR.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dvanced design about?</a:t>
            </a:r>
            <a:endParaRPr b="0" lang="en-US" sz="4000" spc="-1" strike="noStrike">
              <a:solidFill>
                <a:srgbClr val="000000"/>
              </a:solidFill>
              <a:latin typeface="Arial"/>
            </a:endParaRPr>
          </a:p>
        </p:txBody>
      </p:sp>
      <p:sp>
        <p:nvSpPr>
          <p:cNvPr id="5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ving to more structured, efficient web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ng industry standards that benefit you, your organization and your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foundation for future improvements; remaining backwards-compat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s improve interoperability</a:t>
            </a:r>
            <a:endParaRPr b="0" lang="en-US" sz="4000" spc="-1" strike="noStrike">
              <a:solidFill>
                <a:srgbClr val="000000"/>
              </a:solidFill>
              <a:latin typeface="Arial"/>
            </a:endParaRPr>
          </a:p>
        </p:txBody>
      </p:sp>
      <p:sp>
        <p:nvSpPr>
          <p:cNvPr id="54" name="PlaceHolder 2"/>
          <p:cNvSpPr>
            <a:spLocks noGrp="1"/>
          </p:cNvSpPr>
          <p:nvPr>
            <p:ph/>
          </p:nvPr>
        </p:nvSpPr>
        <p:spPr>
          <a:xfrm>
            <a:off x="457200" y="190512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by the W3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4, XHTML 1, CSS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define how tags behave regardless of platform, browser or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HTML &amp; XHTML differ?</a:t>
            </a:r>
            <a:endParaRPr b="0" lang="en-US" sz="4000" spc="-1" strike="noStrike">
              <a:solidFill>
                <a:srgbClr val="000000"/>
              </a:solidFill>
              <a:latin typeface="Arial"/>
            </a:endParaRPr>
          </a:p>
        </p:txBody>
      </p:sp>
      <p:sp>
        <p:nvSpPr>
          <p:cNvPr id="56"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HTML is a stricter version of 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ng is pretty easy 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organization benefits</a:t>
            </a:r>
            <a:endParaRPr b="0" lang="en-US" sz="4000" spc="-1" strike="noStrike">
              <a:solidFill>
                <a:srgbClr val="000000"/>
              </a:solidFill>
              <a:latin typeface="Arial"/>
            </a:endParaRPr>
          </a:p>
        </p:txBody>
      </p:sp>
      <p:sp>
        <p:nvSpPr>
          <p:cNvPr id="5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s-compat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pro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on many de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to users with disabilit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er benefits</a:t>
            </a:r>
            <a:endParaRPr b="0" lang="en-US" sz="4000" spc="-1" strike="noStrike">
              <a:solidFill>
                <a:srgbClr val="000000"/>
              </a:solidFill>
              <a:latin typeface="Arial"/>
            </a:endParaRPr>
          </a:p>
        </p:txBody>
      </p:sp>
      <p:sp>
        <p:nvSpPr>
          <p:cNvPr id="60"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sign of your entire site from on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ntent with imp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TML tags for what they’re intended</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ing on the cake</a:t>
            </a:r>
            <a:endParaRPr b="0" lang="en-US" sz="4000" spc="-1" strike="noStrike">
              <a:solidFill>
                <a:srgbClr val="000000"/>
              </a:solidFill>
              <a:latin typeface="Arial"/>
            </a:endParaRPr>
          </a:p>
        </p:txBody>
      </p:sp>
      <p:sp>
        <p:nvSpPr>
          <p:cNvPr id="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loading in brow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server bandwi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for search eng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free design &amp; layout re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tting HTML &amp; CSS Together</a:t>
            </a:r>
            <a:endParaRPr b="0" lang="en-US" sz="4000" spc="-1" strike="noStrike">
              <a:solidFill>
                <a:srgbClr val="000000"/>
              </a:solidFill>
              <a:latin typeface="Arial"/>
            </a:endParaRPr>
          </a:p>
        </p:txBody>
      </p:sp>
      <p:sp>
        <p:nvSpPr>
          <p:cNvPr id="64" name=""/>
          <p:cNvSpPr/>
          <p:nvPr/>
        </p:nvSpPr>
        <p:spPr>
          <a:xfrm>
            <a:off x="685800" y="3657600"/>
            <a:ext cx="266688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 File(s)</a:t>
            </a:r>
            <a:endParaRPr b="0" lang="en-US" sz="2800" spc="-1" strike="noStrike">
              <a:solidFill>
                <a:srgbClr val="000000"/>
              </a:solidFill>
              <a:latin typeface="Arial"/>
            </a:endParaRPr>
          </a:p>
        </p:txBody>
      </p:sp>
      <p:sp>
        <p:nvSpPr>
          <p:cNvPr id="65" name=""/>
          <p:cNvSpPr/>
          <p:nvPr/>
        </p:nvSpPr>
        <p:spPr>
          <a:xfrm>
            <a:off x="838080" y="4154400"/>
            <a:ext cx="2378160" cy="493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a:t>
            </a:r>
            <a:endParaRPr b="0" lang="en-US" sz="2400" spc="-1" strike="noStrike">
              <a:solidFill>
                <a:srgbClr val="000000"/>
              </a:solidFill>
              <a:latin typeface="Arial"/>
            </a:endParaRPr>
          </a:p>
        </p:txBody>
      </p:sp>
      <p:sp>
        <p:nvSpPr>
          <p:cNvPr id="66" name=""/>
          <p:cNvSpPr/>
          <p:nvPr/>
        </p:nvSpPr>
        <p:spPr>
          <a:xfrm>
            <a:off x="838080" y="4764240"/>
            <a:ext cx="2378160" cy="49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Arial"/>
            </a:endParaRPr>
          </a:p>
        </p:txBody>
      </p:sp>
      <p:sp>
        <p:nvSpPr>
          <p:cNvPr id="67" name=""/>
          <p:cNvSpPr/>
          <p:nvPr/>
        </p:nvSpPr>
        <p:spPr>
          <a:xfrm>
            <a:off x="838080" y="5373720"/>
            <a:ext cx="2378160" cy="49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al</a:t>
            </a:r>
            <a:endParaRPr b="0" lang="en-US" sz="2400" spc="-1" strike="noStrike">
              <a:solidFill>
                <a:srgbClr val="000000"/>
              </a:solidFill>
              <a:latin typeface="Arial"/>
            </a:endParaRPr>
          </a:p>
        </p:txBody>
      </p:sp>
      <p:sp>
        <p:nvSpPr>
          <p:cNvPr id="68" name=""/>
          <p:cNvSpPr/>
          <p:nvPr/>
        </p:nvSpPr>
        <p:spPr>
          <a:xfrm>
            <a:off x="838080" y="5983200"/>
            <a:ext cx="2378160" cy="493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9" name=""/>
          <p:cNvSpPr/>
          <p:nvPr/>
        </p:nvSpPr>
        <p:spPr>
          <a:xfrm>
            <a:off x="609480" y="1905120"/>
            <a:ext cx="73152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Requests</a:t>
            </a:r>
            <a:endParaRPr b="0" lang="en-US" sz="2800" spc="-1" strike="noStrike">
              <a:solidFill>
                <a:srgbClr val="000000"/>
              </a:solidFill>
              <a:latin typeface="Arial"/>
            </a:endParaRPr>
          </a:p>
        </p:txBody>
      </p:sp>
      <p:sp>
        <p:nvSpPr>
          <p:cNvPr id="70" name=""/>
          <p:cNvSpPr/>
          <p:nvPr/>
        </p:nvSpPr>
        <p:spPr>
          <a:xfrm>
            <a:off x="5257800" y="3657600"/>
            <a:ext cx="266688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s</a:t>
            </a:r>
            <a:endParaRPr b="0" lang="en-US" sz="2800" spc="-1" strike="noStrike">
              <a:solidFill>
                <a:srgbClr val="000000"/>
              </a:solidFill>
              <a:latin typeface="Arial"/>
            </a:endParaRPr>
          </a:p>
        </p:txBody>
      </p:sp>
      <p:sp>
        <p:nvSpPr>
          <p:cNvPr id="71" name=""/>
          <p:cNvSpPr/>
          <p:nvPr/>
        </p:nvSpPr>
        <p:spPr>
          <a:xfrm>
            <a:off x="6019920" y="2666880"/>
            <a:ext cx="761760" cy="838440"/>
          </a:xfrm>
          <a:prstGeom prst="downArrow">
            <a:avLst>
              <a:gd name="adj1" fmla="val 50000"/>
              <a:gd name="adj2" fmla="val 2751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581280" y="3962520"/>
            <a:ext cx="1447920" cy="1066680"/>
          </a:xfrm>
          <a:prstGeom prst="leftArrow">
            <a:avLst>
              <a:gd name="adj1" fmla="val 50000"/>
              <a:gd name="adj2" fmla="val 3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nk …/&gt;</a:t>
            </a:r>
            <a:endParaRPr b="0" lang="en-US" sz="2400" spc="-1" strike="noStrike">
              <a:solidFill>
                <a:srgbClr val="000000"/>
              </a:solidFill>
              <a:latin typeface="Arial"/>
            </a:endParaRPr>
          </a:p>
        </p:txBody>
      </p:sp>
      <p:sp>
        <p:nvSpPr>
          <p:cNvPr id="73" name=""/>
          <p:cNvSpPr/>
          <p:nvPr/>
        </p:nvSpPr>
        <p:spPr>
          <a:xfrm>
            <a:off x="83808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4" name=""/>
          <p:cNvSpPr/>
          <p:nvPr/>
        </p:nvSpPr>
        <p:spPr>
          <a:xfrm>
            <a:off x="167652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5" name=""/>
          <p:cNvSpPr/>
          <p:nvPr/>
        </p:nvSpPr>
        <p:spPr>
          <a:xfrm>
            <a:off x="2514600" y="2590920"/>
            <a:ext cx="685800" cy="838080"/>
          </a:xfrm>
          <a:prstGeom prst="upArrow">
            <a:avLst>
              <a:gd name="adj1" fmla="val 50000"/>
              <a:gd name="adj2" fmla="val 3055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6" name=""/>
          <p:cNvSpPr/>
          <p:nvPr/>
        </p:nvSpPr>
        <p:spPr>
          <a:xfrm>
            <a:off x="3581280" y="5105520"/>
            <a:ext cx="1447920" cy="1066680"/>
          </a:xfrm>
          <a:prstGeom prst="leftArrow">
            <a:avLst>
              <a:gd name="adj1" fmla="val 50000"/>
              <a:gd name="adj2" fmla="val 3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2"/>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ltimate Real World Example</a:t>
            </a:r>
            <a:endParaRPr b="0" lang="en-US" sz="4000" spc="-1" strike="noStrike">
              <a:solidFill>
                <a:srgbClr val="000000"/>
              </a:solidFill>
              <a:latin typeface="Arial"/>
            </a:endParaRPr>
          </a:p>
        </p:txBody>
      </p:sp>
      <p:sp>
        <p:nvSpPr>
          <p:cNvPr id="7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S Zen Garden has 519 distinct designs from one XHTML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emise applies to your si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1T00:23:40Z</dcterms:created>
  <dc:creator>brian</dc:creator>
  <dc:description/>
  <dc:language>en-US</dc:language>
  <cp:lastModifiedBy>brian</cp:lastModifiedBy>
  <dcterms:modified xsi:type="dcterms:W3CDTF">2005-01-27T23:06:34Z</dcterms:modified>
  <cp:revision>18</cp:revision>
  <dc:subject/>
  <dc:title>Slide 1</dc:title>
</cp:coreProperties>
</file>