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3EB49-F101-4C36-AD7C-C8F3496E6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 for 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S Zen Garden examples are an excellent way in 60 seconds to see how powerful the separation between content and presentation can be.  We saw the New York Stock Exchange website, a Toddler site, and a movie site all generated from the same HTML page.  And if you accessed one of those pages with Netscape 1.0 you would still be able to read all of th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understand what can be done, let’s see how you can use it in your industry.  Michael is going to take over now and walk you through the NPR site to show how they are using CSS to achieve their desig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alk today on Advanced site design is about empowering you to go beyond the basic websites you’re building today using techniques that will not only improve your site but also reduce your workload.  While this 90 minute session will by no means make you an expert, hopefully we’ll have raised your curiosity enough so you’ll continue exploring these techniques and technologies after the confer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background is 8 years of professional services work consulting on user experience and the design and development of websites and web applications.  The focus of our talk today, separating content from presentation using Cascading Style Sheets, or CSS, is the exact same approach I take with million dollar customers.  The good news is that it’s just as easily used by anyone in this audience with a little up-front patience.  We’ll talk about why this separation is important, what it can do for you and your users and show relevant examples from the NPR and WAMU 88.5 websites to kickstart your thinkin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continue, let me see a show of hands – How many people are still using &lt;font&gt; ta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ere instead use CS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are using XHTM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one validate their HTML or CSS with a validator when develop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on the Internet?!  It sounds like a joke – I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wild, wild west mentality of browser companies Netscape and Internet Explorer in the mid-to-late nineties set a precedent for </a:t>
            </a:r>
            <a:r>
              <a:rPr b="0" i="1" lang="en-US" sz="1200" spc="-1" strike="noStrike">
                <a:solidFill>
                  <a:srgbClr val="000000"/>
                </a:solidFill>
                <a:latin typeface="Arial"/>
              </a:rPr>
              <a:t>not</a:t>
            </a:r>
            <a:r>
              <a:rPr b="0" lang="en-US" sz="1200" spc="-1" strike="noStrike">
                <a:solidFill>
                  <a:srgbClr val="000000"/>
                </a:solidFill>
                <a:latin typeface="Arial"/>
              </a:rPr>
              <a:t> following standards, the last 3-4 years have shown real, meaningful improvement in standards adoption.  IE 6 will turn four years old in February and standards-compliant browsers like Mozilla Firefox and Safari have paved the way for webmasters to move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ld Wide Web Consortium, or W3C, is the primary standards body for web technologies.  They oversee and manage the specifications for almost all of the important markup languages like HTML, CSS, XML and so on.  The standards we are most concerned with are HTML 4.01, XHTML 1.0, and CSS 2.0.  These are the standards that most browsers today support. Microsoft, Apple, Mozilla and other vendors build to these spec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idea behind these specifications is that by having a documented, agreed-upon set of rules, developers should be able to trust that what they create will run as expected regardless of the platform or device so long as the environment supports the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n’t yet worked with XHTML, don’t be afraid.  XHTML is simply a newer version of HTML with a few changes.  In practice, making your site XHTML compatible is very simple and usually requires just a few search and re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idea of XHTML is to make HTML more strict and “well-formed”… like XML.  Well-formed really just means that the document follows certain rules such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tags and attributes must be lower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attributes must be quoted – even the height and width of an image or the size of a font – those values must be quo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tags must close – even those tags that don’t have a close pair.  Take the &lt;table&gt; tag – it has a matching &lt;/table&gt; tag that you must use.  On the other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re are tags like the &lt;br&gt; tag or the &lt;hr&gt; tag.  Well even these tags should be closed in 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as we make progress, some tags are deprecated.  Tags like &lt;center&gt; or &lt;i&gt; are being phased out in favor of using style sheets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know if a page follows the XHTML rules? Well, the W3C makes available a validator which will read your page and tell you if there are any mistak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es your boss and your organization care about developing with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macro issues that executives and management will appreciate that come as a result of using standards in your site.  The economics of having a solid base that affords both compatibility with older browsers as well as future browsers means less money spent on maintenance of your existing 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accessible on today’s devices as well as devices we haven’t even seen yet means your potential audience will only continue to grow, not shrink as more and more people access the web via alternative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many of you here today may have some government funding which means you may be legally obligated to meet certain requirements for accessibility.  HTML content, when paired with CSS, is more easily read by assistive devices such as screen readers and can make compliance with the Bobby standard much easier.  Even if you are not required to do so, it certainly doesn’t hurt to make your content more available to all users,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ould be a good time to be suspicious.  Normally when people say “new and better”, what they really mean is more work for you the develo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honest – there </a:t>
            </a:r>
            <a:r>
              <a:rPr b="0" i="1" lang="en-US" sz="1200" spc="-1" strike="noStrike">
                <a:solidFill>
                  <a:srgbClr val="000000"/>
                </a:solidFill>
                <a:latin typeface="Arial"/>
              </a:rPr>
              <a:t>is</a:t>
            </a:r>
            <a:r>
              <a:rPr b="0" lang="en-US" sz="1200" spc="-1" strike="noStrike">
                <a:solidFill>
                  <a:srgbClr val="000000"/>
                </a:solidFill>
                <a:latin typeface="Arial"/>
              </a:rPr>
              <a:t> a learning curve for developing with standards but it’s a gentle one.  Climbing it means you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rol the design of your site, or even multiple sites, from one small CSS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ause your HTML files will be stripped of extensive table tags and formatting, they will be much simpler and facilitate making content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might even let you offload changing content to another team member, or, better yet, your bo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stly, take full advantage of all of the HTML tags without having to make ugly hacks – no more spacer images, no more using tables to create l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columns, no more using two BR tags for space between paragraphs.  All of these things can be replaced by simpler, proper HTML and a little C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call this “semantic markup”, where we use the tag that most appropriately describes the content it contains, rather than most accurat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plays the content the way we wan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side note, learning these newer approaches is good for your career.  These skills are already becoming foundational requirements so learning them now will be a good mov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so maybe you care a </a:t>
            </a:r>
            <a:r>
              <a:rPr b="0" i="1" lang="en-US" sz="1200" spc="-1" strike="noStrike">
                <a:solidFill>
                  <a:srgbClr val="000000"/>
                </a:solidFill>
                <a:latin typeface="Arial"/>
              </a:rPr>
              <a:t>little</a:t>
            </a:r>
            <a:r>
              <a:rPr b="0" lang="en-US" sz="1200" spc="-1" strike="noStrike">
                <a:solidFill>
                  <a:srgbClr val="000000"/>
                </a:solidFill>
                <a:latin typeface="Arial"/>
              </a:rPr>
              <a:t> bit now...  What could make this even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ading faster in the browser?  And reducing the bandwidth your server 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arch engine ranking and marketing is still one of the top ways to generate traffic to your site.  Simple HTML files will have, percentage-wise, more relevant content in them.  Do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restimate thi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raging the work of other web developers by borrowing from them?  Many proactive developers share their source code in royalty-free repositories where you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couraged to download and use their work as a starting point for all types of lay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there are some advantages to be ha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ite can be one or more HTML pages that include one or more external CSS files.  Now Frank will talk in a few minutes about using a server-side technology to further separate content from presentation but at its most basic level, each HTML page includes a reference to a CSS file sitting on your web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HTML page in your site can refer to one CSS file, or you might have multiple CSS files for different part of your site.  You might even break out your CSS into multiple files – for example – one that contains basic font settings for all browsers all the way back to IE 3 and Netscape 4 and then another more advanced CSS file for more recent browsers that only gets loaded when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have CSS files for specific media such as printing that can completely change the look of the site when someone prints your page.  You can use these features to turn off background images or hide banner ads or navigation when someone wants to create a hard copy and it will never change the way the page appears in the web brows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se CSS Zen Garden Examples (from local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 Riders: http://www.csszengarden.com/?cssfile=http://www.so-b-i.com/zen/sample.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dler Fun: http://www.csszengarden.com/?cssfile=http://www.robdrummond.co.uk/css/style.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YSE Copycat: http://www.csszengarden.com/?cssfile=http://berneis.com/zengarden/nyse.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witches: http://www.csszengarden.com/?cssfile=142%2F142%2E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ite can be just like the CSS Zen Garden - create good HTML and you can design anything, oftentimes without touching the underlying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eans you also don’t have to touch a content management system or server-side code if you are using them – more freedom and more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49D561-C9B1-48C6-BD48-107F82204B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905120"/>
            <a:ext cx="8229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293360"/>
            <a:ext cx="8229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C4ACDB-3A43-4557-B581-9CF3D56A36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905120"/>
            <a:ext cx="4015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905120"/>
            <a:ext cx="4015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293360"/>
            <a:ext cx="4015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293360"/>
            <a:ext cx="4015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A38338-36B9-45C0-95B2-8463237CEE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905120"/>
            <a:ext cx="2649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905120"/>
            <a:ext cx="2649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905120"/>
            <a:ext cx="2649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293360"/>
            <a:ext cx="2649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293360"/>
            <a:ext cx="2649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293360"/>
            <a:ext cx="2649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0028E5-BD4C-4196-A0F5-DDDC9F050E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905120"/>
            <a:ext cx="82296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557B4-5CAC-4D5D-B01F-DC71AFA8C4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4477A-B8F2-45EC-84EA-6558D7720E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905120"/>
            <a:ext cx="4015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905120"/>
            <a:ext cx="4015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5062BC-F86D-4BB9-9C09-284729F0AF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4AB95CD2-D10B-485A-8294-84F51AE272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AA0CA51-2CBF-48CE-8B64-972085A8AD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905120"/>
            <a:ext cx="4015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905120"/>
            <a:ext cx="4015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293360"/>
            <a:ext cx="4015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D1F84-5D78-4574-BF39-3046CBE1BC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905120"/>
            <a:ext cx="4015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05120"/>
            <a:ext cx="4015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293360"/>
            <a:ext cx="4015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384D7-AEAB-4C31-9F2D-3A0D089D09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905120"/>
            <a:ext cx="4015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05120"/>
            <a:ext cx="4015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293360"/>
            <a:ext cx="8229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85D0D-85DD-4546-979C-E8C9B8D201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9051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81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FA30-D64F-4B86-AF7C-5EA5DAD0B0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
          <p:cNvSpPr/>
          <p:nvPr/>
        </p:nvSpPr>
        <p:spPr>
          <a:xfrm>
            <a:off x="0" y="0"/>
            <a:ext cx="9144000" cy="990720"/>
          </a:xfrm>
          <a:prstGeom prst="rect">
            <a:avLst/>
          </a:prstGeom>
          <a:solidFill>
            <a:srgbClr val="d0153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13920" y="222120"/>
            <a:ext cx="377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Bold-Roman"/>
              </a:rPr>
              <a:t>Advanced Site Design</a:t>
            </a:r>
            <a:endParaRPr b="0" lang="en-US" sz="2800" spc="-1" strike="noStrike">
              <a:solidFill>
                <a:srgbClr val="000000"/>
              </a:solidFill>
              <a:latin typeface="Arial"/>
            </a:endParaRPr>
          </a:p>
        </p:txBody>
      </p:sp>
      <p:sp>
        <p:nvSpPr>
          <p:cNvPr id="5" name="PlaceHolder 4"/>
          <p:cNvSpPr>
            <a:spLocks noGrp="1"/>
          </p:cNvSpPr>
          <p:nvPr>
            <p:ph type="dt" idx="2"/>
          </p:nvPr>
        </p:nvSpPr>
        <p:spPr>
          <a:xfrm>
            <a:off x="6477120" y="3045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an Ghidinelli, </a:t>
            </a:r>
            <a:r>
              <a:rPr b="0" lang="en-US" sz="2400" spc="-1" strike="noStrike">
                <a:solidFill>
                  <a:srgbClr val="808080"/>
                </a:solidFill>
                <a:latin typeface="Arial"/>
              </a:rPr>
              <a:t>User Experience Consultan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hael Yo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k Hamilt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om abstract to concrete</a:t>
            </a:r>
            <a:endParaRPr b="0" lang="en-US" sz="4000" spc="-1" strike="noStrike">
              <a:solidFill>
                <a:srgbClr val="000000"/>
              </a:solidFill>
              <a:latin typeface="Arial"/>
            </a:endParaRPr>
          </a:p>
        </p:txBody>
      </p:sp>
      <p:sp>
        <p:nvSpPr>
          <p:cNvPr id="80"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examples show you the power of separating content from pres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makes it relevant: NPR.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dvanced design about?</a:t>
            </a:r>
            <a:endParaRPr b="0" lang="en-US" sz="4000" spc="-1" strike="noStrike">
              <a:solidFill>
                <a:srgbClr val="000000"/>
              </a:solidFill>
              <a:latin typeface="Arial"/>
            </a:endParaRPr>
          </a:p>
        </p:txBody>
      </p:sp>
      <p:sp>
        <p:nvSpPr>
          <p:cNvPr id="5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olving to more structured, efficient web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ing industry standards that benefit you, your organization and your us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a foundation for future improvements; remaining backwards-compat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dards improve interoperability</a:t>
            </a:r>
            <a:endParaRPr b="0" lang="en-US" sz="4000" spc="-1" strike="noStrike">
              <a:solidFill>
                <a:srgbClr val="000000"/>
              </a:solidFill>
              <a:latin typeface="Arial"/>
            </a:endParaRPr>
          </a:p>
        </p:txBody>
      </p:sp>
      <p:sp>
        <p:nvSpPr>
          <p:cNvPr id="54" name="PlaceHolder 2"/>
          <p:cNvSpPr>
            <a:spLocks noGrp="1"/>
          </p:cNvSpPr>
          <p:nvPr>
            <p:ph/>
          </p:nvPr>
        </p:nvSpPr>
        <p:spPr>
          <a:xfrm>
            <a:off x="457200" y="190512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by the W3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 4, XHTML 1, CSS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define how tags behave regardless of platform, browser or de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HTML &amp; XHTML differ?</a:t>
            </a:r>
            <a:endParaRPr b="0" lang="en-US" sz="4000" spc="-1" strike="noStrike">
              <a:solidFill>
                <a:srgbClr val="000000"/>
              </a:solidFill>
              <a:latin typeface="Arial"/>
            </a:endParaRPr>
          </a:p>
        </p:txBody>
      </p:sp>
      <p:sp>
        <p:nvSpPr>
          <p:cNvPr id="56"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HTML is a stricter version of 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ing is pretty easy in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r organization benefits</a:t>
            </a:r>
            <a:endParaRPr b="0" lang="en-US" sz="4000" spc="-1" strike="noStrike">
              <a:solidFill>
                <a:srgbClr val="000000"/>
              </a:solidFill>
              <a:latin typeface="Arial"/>
            </a:endParaRPr>
          </a:p>
        </p:txBody>
      </p:sp>
      <p:sp>
        <p:nvSpPr>
          <p:cNvPr id="58"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wards-compat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proo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ble on many devic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ble to users with disabiliti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er benefits</a:t>
            </a:r>
            <a:endParaRPr b="0" lang="en-US" sz="4000" spc="-1" strike="noStrike">
              <a:solidFill>
                <a:srgbClr val="000000"/>
              </a:solidFill>
              <a:latin typeface="Arial"/>
            </a:endParaRPr>
          </a:p>
        </p:txBody>
      </p:sp>
      <p:sp>
        <p:nvSpPr>
          <p:cNvPr id="60"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the design of your entire site from one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 content with imp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HTML tags for what they’re intended</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ing on the cake</a:t>
            </a:r>
            <a:endParaRPr b="0" lang="en-US" sz="4000" spc="-1" strike="noStrike">
              <a:solidFill>
                <a:srgbClr val="000000"/>
              </a:solidFill>
              <a:latin typeface="Arial"/>
            </a:endParaRPr>
          </a:p>
        </p:txBody>
      </p:sp>
      <p:sp>
        <p:nvSpPr>
          <p:cNvPr id="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loading in brows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s server bandwid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for search eng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free design &amp; layout reposito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tting HTML &amp; CSS Together</a:t>
            </a:r>
            <a:endParaRPr b="0" lang="en-US" sz="4000" spc="-1" strike="noStrike">
              <a:solidFill>
                <a:srgbClr val="000000"/>
              </a:solidFill>
              <a:latin typeface="Arial"/>
            </a:endParaRPr>
          </a:p>
        </p:txBody>
      </p:sp>
      <p:sp>
        <p:nvSpPr>
          <p:cNvPr id="64" name=""/>
          <p:cNvSpPr/>
          <p:nvPr/>
        </p:nvSpPr>
        <p:spPr>
          <a:xfrm>
            <a:off x="685800" y="3657600"/>
            <a:ext cx="2666880" cy="2971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 File(s)</a:t>
            </a:r>
            <a:endParaRPr b="0" lang="en-US" sz="2800" spc="-1" strike="noStrike">
              <a:solidFill>
                <a:srgbClr val="000000"/>
              </a:solidFill>
              <a:latin typeface="Arial"/>
            </a:endParaRPr>
          </a:p>
        </p:txBody>
      </p:sp>
      <p:sp>
        <p:nvSpPr>
          <p:cNvPr id="65" name=""/>
          <p:cNvSpPr/>
          <p:nvPr/>
        </p:nvSpPr>
        <p:spPr>
          <a:xfrm>
            <a:off x="838080" y="4154400"/>
            <a:ext cx="2378160" cy="493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een</a:t>
            </a:r>
            <a:endParaRPr b="0" lang="en-US" sz="2400" spc="-1" strike="noStrike">
              <a:solidFill>
                <a:srgbClr val="000000"/>
              </a:solidFill>
              <a:latin typeface="Arial"/>
            </a:endParaRPr>
          </a:p>
        </p:txBody>
      </p:sp>
      <p:sp>
        <p:nvSpPr>
          <p:cNvPr id="66" name=""/>
          <p:cNvSpPr/>
          <p:nvPr/>
        </p:nvSpPr>
        <p:spPr>
          <a:xfrm>
            <a:off x="838080" y="4764240"/>
            <a:ext cx="2378160" cy="4935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Arial"/>
            </a:endParaRPr>
          </a:p>
        </p:txBody>
      </p:sp>
      <p:sp>
        <p:nvSpPr>
          <p:cNvPr id="67" name=""/>
          <p:cNvSpPr/>
          <p:nvPr/>
        </p:nvSpPr>
        <p:spPr>
          <a:xfrm>
            <a:off x="838080" y="5373720"/>
            <a:ext cx="2378160" cy="4935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ral</a:t>
            </a:r>
            <a:endParaRPr b="0" lang="en-US" sz="2400" spc="-1" strike="noStrike">
              <a:solidFill>
                <a:srgbClr val="000000"/>
              </a:solidFill>
              <a:latin typeface="Arial"/>
            </a:endParaRPr>
          </a:p>
        </p:txBody>
      </p:sp>
      <p:sp>
        <p:nvSpPr>
          <p:cNvPr id="68" name=""/>
          <p:cNvSpPr/>
          <p:nvPr/>
        </p:nvSpPr>
        <p:spPr>
          <a:xfrm>
            <a:off x="838080" y="5983200"/>
            <a:ext cx="2378160" cy="493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9" name=""/>
          <p:cNvSpPr/>
          <p:nvPr/>
        </p:nvSpPr>
        <p:spPr>
          <a:xfrm>
            <a:off x="609480" y="1905120"/>
            <a:ext cx="73152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 Requests</a:t>
            </a:r>
            <a:endParaRPr b="0" lang="en-US" sz="2800" spc="-1" strike="noStrike">
              <a:solidFill>
                <a:srgbClr val="000000"/>
              </a:solidFill>
              <a:latin typeface="Arial"/>
            </a:endParaRPr>
          </a:p>
        </p:txBody>
      </p:sp>
      <p:sp>
        <p:nvSpPr>
          <p:cNvPr id="70" name=""/>
          <p:cNvSpPr/>
          <p:nvPr/>
        </p:nvSpPr>
        <p:spPr>
          <a:xfrm>
            <a:off x="5257800" y="3657600"/>
            <a:ext cx="2666880" cy="2971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XHTM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s</a:t>
            </a:r>
            <a:endParaRPr b="0" lang="en-US" sz="2800" spc="-1" strike="noStrike">
              <a:solidFill>
                <a:srgbClr val="000000"/>
              </a:solidFill>
              <a:latin typeface="Arial"/>
            </a:endParaRPr>
          </a:p>
        </p:txBody>
      </p:sp>
      <p:sp>
        <p:nvSpPr>
          <p:cNvPr id="71" name=""/>
          <p:cNvSpPr/>
          <p:nvPr/>
        </p:nvSpPr>
        <p:spPr>
          <a:xfrm>
            <a:off x="6019920" y="2666880"/>
            <a:ext cx="761760" cy="838440"/>
          </a:xfrm>
          <a:prstGeom prst="downArrow">
            <a:avLst>
              <a:gd name="adj1" fmla="val 50000"/>
              <a:gd name="adj2" fmla="val 2751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3581280" y="3962520"/>
            <a:ext cx="1447920" cy="1066680"/>
          </a:xfrm>
          <a:prstGeom prst="leftArrow">
            <a:avLst>
              <a:gd name="adj1" fmla="val 50000"/>
              <a:gd name="adj2" fmla="val 3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nk …/&gt;</a:t>
            </a:r>
            <a:endParaRPr b="0" lang="en-US" sz="2400" spc="-1" strike="noStrike">
              <a:solidFill>
                <a:srgbClr val="000000"/>
              </a:solidFill>
              <a:latin typeface="Arial"/>
            </a:endParaRPr>
          </a:p>
        </p:txBody>
      </p:sp>
      <p:sp>
        <p:nvSpPr>
          <p:cNvPr id="73" name=""/>
          <p:cNvSpPr/>
          <p:nvPr/>
        </p:nvSpPr>
        <p:spPr>
          <a:xfrm>
            <a:off x="838080" y="2590920"/>
            <a:ext cx="685800" cy="838080"/>
          </a:xfrm>
          <a:prstGeom prst="upArrow">
            <a:avLst>
              <a:gd name="adj1" fmla="val 50000"/>
              <a:gd name="adj2" fmla="val 3055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4" name=""/>
          <p:cNvSpPr/>
          <p:nvPr/>
        </p:nvSpPr>
        <p:spPr>
          <a:xfrm>
            <a:off x="1676520" y="2590920"/>
            <a:ext cx="685800" cy="838080"/>
          </a:xfrm>
          <a:prstGeom prst="upArrow">
            <a:avLst>
              <a:gd name="adj1" fmla="val 50000"/>
              <a:gd name="adj2" fmla="val 3055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5" name=""/>
          <p:cNvSpPr/>
          <p:nvPr/>
        </p:nvSpPr>
        <p:spPr>
          <a:xfrm>
            <a:off x="2514600" y="2590920"/>
            <a:ext cx="685800" cy="838080"/>
          </a:xfrm>
          <a:prstGeom prst="upArrow">
            <a:avLst>
              <a:gd name="adj1" fmla="val 50000"/>
              <a:gd name="adj2" fmla="val 3055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6" name=""/>
          <p:cNvSpPr/>
          <p:nvPr/>
        </p:nvSpPr>
        <p:spPr>
          <a:xfrm>
            <a:off x="3581280" y="5105520"/>
            <a:ext cx="1447920" cy="1066680"/>
          </a:xfrm>
          <a:prstGeom prst="leftArrow">
            <a:avLst>
              <a:gd name="adj1" fmla="val 50000"/>
              <a:gd name="adj2" fmla="val 3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2"/>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7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5"/>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6"/>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7"/>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68"/>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73"/>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74"/>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Ultimate Real World Example</a:t>
            </a:r>
            <a:endParaRPr b="0" lang="en-US" sz="4000" spc="-1" strike="noStrike">
              <a:solidFill>
                <a:srgbClr val="000000"/>
              </a:solidFill>
              <a:latin typeface="Arial"/>
            </a:endParaRPr>
          </a:p>
        </p:txBody>
      </p:sp>
      <p:sp>
        <p:nvSpPr>
          <p:cNvPr id="78"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S Zen Garden has 519 distinct designs from one XHTML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premise applies to your si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1T00:23:40Z</dcterms:created>
  <dc:creator>brian</dc:creator>
  <dc:description/>
  <dc:language>en-US</dc:language>
  <cp:lastModifiedBy>brian</cp:lastModifiedBy>
  <dcterms:modified xsi:type="dcterms:W3CDTF">2005-01-26T01:23:26Z</dcterms:modified>
  <cp:revision>12</cp:revision>
  <dc:subject/>
  <dc:title>Slide 1</dc:title>
</cp:coreProperties>
</file>